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6FB-FE0B-43DB-BC87-9215F7DB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335-007A-4B39-AF11-06A9055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E57-6DD0-4CE3-9B96-36C071F8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0A7-8333-40E2-8E7F-78A7FC8A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96C-47CD-42D1-941D-2BC3C5BF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14B1-20D0-4D4C-A805-6B9BA49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5D7-EDFF-4B7F-A725-95769E8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78EF-3463-416D-A07F-59C234E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4C51-8058-4A1E-B46E-738093E8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3B70-BA1B-4C56-8492-3B891F0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6BD-C6C0-4D4D-9507-A70A429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C51-BC22-413B-9708-5879D4DE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669C-BF38-4DB8-8FF3-BDE0BE2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636-37E8-4A18-8CA8-5D1BA30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06FF-0B32-4F35-BFC7-903C7B9B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DD4-7B91-40C7-8672-DEC15597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6C62-A410-4A0E-8470-8FB430FC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06F-949E-4BB7-9CE3-8D23BDF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609-A1CA-4AEC-94A8-181CA9A3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204-0D71-49A2-8C63-671119DE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320-5C93-40B4-B9C8-0D99055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4B5-AFC4-4172-8C21-A820BBC1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56A-2272-4BF3-9BDF-0DB5F76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93D-99A1-4B36-B658-B620047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B31-3565-4AB5-B6A8-B2ADEA810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762-0BB6-44EB-8DEE-A750DEED6D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Mansion Herm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65640" y="1636560"/>
            <a:ext cx="29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Olivia Sal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4495680" cy="3046680"/>
          </a:xfrm>
          <a:prstGeom prst="rect">
            <a:avLst/>
          </a:prstGeom>
          <a:ln w="0">
            <a:noFill/>
          </a:ln>
        </p:spPr>
      </p:pic>
    </p:spTree>
  </p:cSld>
  <p:transition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arto de invitado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63244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cina bas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6324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medor es glor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ñ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705360" cy="369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6858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 mi cuatro de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abul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uarto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324480" cy="348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0200" y="52578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 mi cua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324480" cy="348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010280" y="175248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jardin herm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289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3341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io es relaj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s niños cuart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390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lumpi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172200" cy="3930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47Z</dcterms:created>
  <dc:creator>salkindoli</dc:creator>
  <dc:description/>
  <dc:language>en-US</dc:language>
  <cp:lastModifiedBy>salkindoli</cp:lastModifiedBy>
  <dcterms:modified xsi:type="dcterms:W3CDTF">2011-10-25T16:07:31Z</dcterms:modified>
  <cp:revision>5</cp:revision>
  <dc:subject/>
  <dc:title>Slide 1</dc:title>
</cp:coreProperties>
</file>